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240-9157-4C4A-B481-35B37922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032-6567-4594-969A-F2AEE47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4A2-86A4-4933-820F-046C3C76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872-EF7A-4A1D-9B74-1F70D426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DE4-BAC8-4BCF-8EFC-F94C6C84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E7DD-B048-4AA5-BBFF-6C97EE4F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E23-CD04-47EE-B585-F471417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C67-47F8-4F7C-9138-59B51A1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8B28-8E6D-4AE2-A8E3-8763426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8AE-CC1B-4AF0-B32E-52FB65B7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5CBF-4FED-41F9-B94F-53A2702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001-31A8-4C25-9F7C-301E688E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B04-01B4-403E-AE7D-AF0A0F1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8146-7C26-4A45-A990-30D5987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751D-866C-4D2C-B879-41DF1682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7CC-9BB4-4235-91BB-F6918227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C30-6041-434A-9660-3EECF515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139-C41D-469B-9EA3-54470A38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5D6-927E-402A-AF0B-79B1BBE9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AB7-81A6-4644-AC04-C19830AB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259-4671-4890-BD5B-DF0EDAD5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331-3649-4544-A522-FCD532C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DFD-685D-464B-8120-F4B6F1C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58D-2CDF-4EED-A353-EAA590E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26B-D437-42E0-87AB-9C05EC68C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CCC5-14F8-4796-8313-04215163F9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Lorraine Hansberry</a:t>
            </a:r>
            <a:br>
              <a:rPr sz="66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 u="sng">
                <a:solidFill>
                  <a:srgbClr val="6600cc"/>
                </a:solidFill>
                <a:uFillTx/>
                <a:latin typeface="Book Antiqua"/>
              </a:rPr>
              <a:t>A Raisin In The Su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174760"/>
            <a:ext cx="457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Hansberry was born in 1930, the youngest of four childre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o Carl &amp; Nannie Hansber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She was born &amp; raised 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e Southside, Chicago, Illino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Her parents were social activists; they challenged discriminating Jim Crow Law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Lorraine too was a social activi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37280" y="1981080"/>
            <a:ext cx="35258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6520" y="1828800"/>
            <a:ext cx="3173400" cy="468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14800" y="1676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752480"/>
            <a:ext cx="47242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attended a segregated public high school, then attended the University of Wiscons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arried Robert Nemiroff, a white Jewish songwrit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et him on a picket line protesting the exclusion of black athletes from university sp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ro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Raisin in the S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1957; it opened on Broadway in 195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Civil Rights Mov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ig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r. Martin Luther King, J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.E.B. DuBo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Activism, in which Lorraine Hansberry was a part, included speeches, writing, and pro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.e. sit-ins, marches, and anti-segregation ralli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194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57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:  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Raisin in the S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59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:  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Raisin in the Sun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hits Broad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ins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NY Drama Critics Circle Award: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          “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est Play of the Yea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1960:   She writes a screenplay of the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1961:   Wins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Cannes Film Festival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award</a:t>
            </a: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About the Pl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raine Hansberry’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Raisin in the S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influenced generations of Americans.  The play inspired millions to confront issues of civil rights, segregation, violent racism, and whether or not the American dream was even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sberry died of cancer on January 12, 1965, at the age of thirty-four. However, her memory lives on in how she lived her life and through h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raordinary body of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remains relevant even toda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21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73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 in the S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 adapted into a musical, entit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ny Aw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best music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ran on Broadway for thre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ical was revived in 198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388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4:38:51Z</dcterms:created>
  <dc:creator>Melanie Young</dc:creator>
  <dc:description/>
  <dc:language>en-US</dc:language>
  <cp:lastModifiedBy>RVCSchools</cp:lastModifiedBy>
  <dcterms:modified xsi:type="dcterms:W3CDTF">2010-03-03T13:18:50Z</dcterms:modified>
  <cp:revision>22</cp:revision>
  <dc:subject/>
  <dc:title>Lorraine Hansberry</dc:title>
</cp:coreProperties>
</file>